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EC65-2CA9-4A23-94B5-C4C2F221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DDD0-807D-4A37-B5A5-4DF9DDBD3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90B5-ED95-4DAD-978D-856E77921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1FD-C066-42B2-B5CC-C9812C8CE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A53D6-3B03-4741-9A32-FA2C20285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12FE-79A0-43BF-BDB7-879D94F5C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8ADC-AFB7-4BEA-8800-9644B922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09C-EE16-4931-A5CA-2444D4EB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2D264-9725-445E-860D-5FF675DF3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5AD28-B82D-4330-833F-917DE01A2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0BED-C741-4A9C-A262-CC571D2E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8202-04EA-42B9-A4B6-028D1C36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C7241-EBE8-4CDF-9E02-C3B8A1B93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FA286-F3FD-43FC-B08C-A024A47C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5F486-D27C-41A1-96E4-43EFDF3C4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66829-F036-4B49-8461-D16A49CB1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68DC-30FF-4F2D-A02F-27270248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3B4FF-705B-4C32-874B-E7D922A99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A0795-871D-4DB8-AFB7-50F83ADDF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18CA-F2FB-4B06-9A1D-1A1AE146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BA3F80-B95F-4939-B2BB-EAF87D23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6073-8525-47D7-A7CF-ABED567A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EA1-2C0D-4553-97DF-043AF4B03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2A83-901C-4287-9403-AE267AFCB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B85E2-5BB8-4E25-9266-5C5EE5163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A6DA67-53EA-4276-8E29-7DA7895C2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55BE2-97D1-4334-839C-C3A5D556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6D1A6-E0B7-4D4E-8B67-6C391B0D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5F5D6B-1173-4256-8861-8B59B27D0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FBDC8-F834-4D70-A298-00F63A864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61A3D-85BC-4724-B184-54CB24AB3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46234F-7D02-4282-9D9E-FE6EDCEE1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25720-9933-44E0-AF2E-AA6CF36F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473-6DCA-4668-BDF4-1ADA3E9E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1281D-499D-4379-A85C-7C8EB1365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7B983F-B611-4BBE-9F85-1BAC0E27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227A5-D5A9-4E25-8767-B332CBCB5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EBF8D-5080-47C6-AB0E-8A6DB355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6B5F47-FD71-4D96-B2AB-ADCBDAF11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EEC3F2-DE78-417E-B3A8-51E1DAA8F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65541-2238-4278-A46C-9CCB38D0F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4A4F6-0CF7-459D-A1F1-45A79019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64451-BCA3-422E-9D80-0EB1B834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8A0E79-EEF6-46C3-9E67-16A7CFC89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FDA0-8279-4564-86C7-241BC143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81857-A747-41B2-8041-F97B896D2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BA644-9F58-49A4-AC93-51F1BD9E8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4089EA-648F-49F2-B17B-DB205EB50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96BF3F-3FDD-4ACF-B62C-E1AB1D3EA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BBCAB-DEDD-4DCE-B77D-9BA769172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4698A-E7CE-49B9-9788-EB3339AF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0F2531-E804-4346-AFB5-5ACA30E5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20773-0CC6-4571-8207-98D111E9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EAC27-5204-4742-B8E7-025C63017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6A99A-D34A-4B56-96E1-CBEB5E145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572-000F-4551-9864-B688DB275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F04C3-B4D8-4AE2-99E0-EBCD4C916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B83B-AE7D-4916-B88D-8226CFA1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9B270-A363-4154-A631-9E700B1E4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1A67-FD32-4C8F-BF71-9DB62578E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5A74-EE24-428E-A633-615C000FDED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1783E-24FE-41FA-9D69-8FF85DB1522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D772F-EBC5-4859-856E-43F0E32E7F7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64646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6464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09A5-0A40-4E79-A0F8-C0093FE2FFEE}" type="slidenum">
              <a:rPr b="0" lang="en-US" sz="1600" spc="-1" strike="noStrike">
                <a:solidFill>
                  <a:srgbClr val="464646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da1f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eb641b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da1f28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A7CC4-7057-4A00-803E-F59B3CC39004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LOS APUNTES: DEBER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323440"/>
            <a:ext cx="6510240" cy="32868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Franklin Gothic Book"/>
                <a:ea typeface="Tung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unga"/>
              </a:rPr>
              <a:t> YEAR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  <a:ea typeface="Tunga"/>
              </a:rPr>
              <a:t>5.2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Oval 6"/>
          <p:cNvSpPr/>
          <p:nvPr/>
        </p:nvSpPr>
        <p:spPr>
          <a:xfrm>
            <a:off x="3733920" y="6095880"/>
            <a:ext cx="1257120" cy="76212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8" name="Oval 5"/>
          <p:cNvSpPr/>
          <p:nvPr/>
        </p:nvSpPr>
        <p:spPr>
          <a:xfrm>
            <a:off x="2057400" y="5486400"/>
            <a:ext cx="2171880" cy="838080"/>
          </a:xfrm>
          <a:prstGeom prst="ellipse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ONJUGATE THE VERB </a:t>
            </a:r>
            <a:r>
              <a:rPr b="0" lang="en-US" sz="2800" spc="-1" strike="noStrike">
                <a:solidFill>
                  <a:srgbClr val="eb641b"/>
                </a:solidFill>
                <a:latin typeface="Franklin Gothic Medium"/>
              </a:rPr>
              <a:t>DEBER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 : </a:t>
            </a:r>
            <a:r>
              <a:rPr b="0" i="1" lang="en-US" sz="2800" spc="-1" strike="noStrike">
                <a:solidFill>
                  <a:srgbClr val="39639d"/>
                </a:solidFill>
                <a:latin typeface="Franklin Gothic Medium"/>
              </a:rPr>
              <a:t>SHOULD/OUG</a:t>
            </a:r>
            <a:r>
              <a:rPr b="0" lang="en-US" sz="2800" spc="-1" strike="noStrike">
                <a:solidFill>
                  <a:srgbClr val="39639d"/>
                </a:solidFill>
                <a:latin typeface="Franklin Gothic Medium"/>
              </a:rPr>
              <a:t>H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04920" y="1295280"/>
          <a:ext cx="8458200" cy="345780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1079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Yo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n-US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I 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1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Nosotros(as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n-US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EM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We 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9d1d3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T</a:t>
                      </a:r>
                      <a:r>
                        <a:rPr b="1" lang="es-ES_tradnl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ú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n-US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You (singular/familiar) 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ccc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Vosotros (as)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 DEB</a:t>
                      </a:r>
                      <a:r>
                        <a:rPr b="1" lang="es-ES_tradnl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É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You all (plural/familiar) shou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1cccd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Él, Ella, Usted    </a:t>
                      </a: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s-ES_tradnl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He, She, You (singular/formal) shoul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e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008000"/>
                          </a:solidFill>
                          <a:latin typeface="Franklin Gothic Book"/>
                        </a:rPr>
                        <a:t>Ellos(as), Ustedes </a:t>
                      </a:r>
                      <a:r>
                        <a:rPr b="1" lang="es-ES_tradnl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DEB</a:t>
                      </a:r>
                      <a:r>
                        <a:rPr b="1" lang="es-ES_tradnl" sz="2400" spc="-1" strike="noStrike">
                          <a:solidFill>
                            <a:srgbClr val="39639d"/>
                          </a:solidFill>
                          <a:latin typeface="Franklin Gothic Book"/>
                        </a:rPr>
                        <a:t>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eb641b"/>
                          </a:solidFill>
                          <a:latin typeface="Franklin Gothic Book"/>
                        </a:rPr>
                        <a:t>They, You all (plural, formal) shoul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e7e8"/>
                    </a:solidFill>
                  </a:tcPr>
                </a:tc>
              </a:tr>
            </a:tbl>
          </a:graphicData>
        </a:graphic>
      </p:graphicFrame>
      <p:sp>
        <p:nvSpPr>
          <p:cNvPr id="221" name="TextBox 4"/>
          <p:cNvSpPr/>
          <p:nvPr/>
        </p:nvSpPr>
        <p:spPr>
          <a:xfrm>
            <a:off x="1295280" y="4843440"/>
            <a:ext cx="7925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What type of verb is DEBER?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egular or Irregular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- ar     – er      – ir 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USING THE VERB </a:t>
            </a:r>
            <a:r>
              <a:rPr b="0" lang="en-US" sz="2800" spc="-1" strike="noStrike">
                <a:solidFill>
                  <a:srgbClr val="da1f28"/>
                </a:solidFill>
                <a:latin typeface="Franklin Gothic Medium"/>
              </a:rPr>
              <a:t>DEBER 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TO TALK ABOUT WHAT PEOPLE SHOULD/OUGHT TO DO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762120"/>
            <a:ext cx="8229600" cy="149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200" spc="-1" strike="noStrike">
                <a:solidFill>
                  <a:srgbClr val="da1f28"/>
                </a:solidFill>
                <a:latin typeface="Franklin Gothic Book"/>
              </a:rPr>
              <a:t>Deber</a:t>
            </a:r>
            <a:r>
              <a:rPr b="1" lang="es-ES_tradnl" sz="7200" spc="-1" strike="noStrike">
                <a:solidFill>
                  <a:srgbClr val="000000"/>
                </a:solidFill>
                <a:latin typeface="Franklin Gothic Book"/>
              </a:rPr>
              <a:t>   </a:t>
            </a:r>
            <a:r>
              <a:rPr b="1" lang="en-US" sz="7200" spc="-1" strike="noStrike">
                <a:solidFill>
                  <a:srgbClr val="000000"/>
                </a:solidFill>
                <a:latin typeface="Franklin Gothic Book"/>
              </a:rPr>
              <a:t>+   </a:t>
            </a:r>
            <a:r>
              <a:rPr b="1" lang="en-US" sz="7200" spc="-1" strike="noStrike">
                <a:solidFill>
                  <a:srgbClr val="2da2bf"/>
                </a:solidFill>
                <a:latin typeface="Franklin Gothic Book"/>
              </a:rPr>
              <a:t>Infinitive </a:t>
            </a:r>
            <a:endParaRPr b="1" lang="en-US" sz="7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4" name="Content Placeholder 2"/>
          <p:cNvSpPr/>
          <p:nvPr/>
        </p:nvSpPr>
        <p:spPr>
          <a:xfrm>
            <a:off x="1752480" y="1828800"/>
            <a:ext cx="71629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Ejemplo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1. Yo </a:t>
            </a:r>
            <a:r>
              <a:rPr b="1" lang="es-ES_tradnl" sz="2400" spc="-1" strike="noStrike">
                <a:solidFill>
                  <a:srgbClr val="da1f28"/>
                </a:solidFill>
                <a:latin typeface="Franklin Gothic Book"/>
              </a:rPr>
              <a:t>debo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_tradnl" sz="2400" spc="-1" strike="noStrike">
                <a:solidFill>
                  <a:srgbClr val="2da2bf"/>
                </a:solidFill>
                <a:latin typeface="Franklin Gothic Book"/>
              </a:rPr>
              <a:t>pedir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 una limonad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I should order a lemonade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2. Tú </a:t>
            </a:r>
            <a:r>
              <a:rPr b="1" lang="es-ES_tradnl" sz="2400" spc="-1" strike="noStrike">
                <a:solidFill>
                  <a:srgbClr val="da1f28"/>
                </a:solidFill>
                <a:latin typeface="Franklin Gothic Book"/>
              </a:rPr>
              <a:t>debes </a:t>
            </a:r>
            <a:r>
              <a:rPr b="1" lang="es-ES_tradnl" sz="2400" spc="-1" strike="noStrike">
                <a:solidFill>
                  <a:srgbClr val="2da2bf"/>
                </a:solidFill>
                <a:latin typeface="Franklin Gothic Book"/>
              </a:rPr>
              <a:t>barrer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 el suelo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You (singular/familiar) should sweep the floor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3. Usted </a:t>
            </a:r>
            <a:r>
              <a:rPr b="1" lang="es-ES_tradnl" sz="2400" spc="-1" strike="noStrike">
                <a:solidFill>
                  <a:srgbClr val="da1f28"/>
                </a:solidFill>
                <a:latin typeface="Franklin Gothic Book"/>
              </a:rPr>
              <a:t>debe 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s-ES_tradnl" sz="2400" spc="-1" strike="noStrike">
                <a:solidFill>
                  <a:srgbClr val="2da2bf"/>
                </a:solidFill>
                <a:latin typeface="Franklin Gothic Book"/>
              </a:rPr>
              <a:t>llamar</a:t>
            </a: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me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1143000" indent="-11430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You (singular/formal) should call me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4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MÁS PRÁCTICA – ¡TRADUCE!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266760" y="992160"/>
            <a:ext cx="86486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She should bring the appetizers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Ella debe traer las tapas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2. They should go to the park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Ellos deben ir al parque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3. I should wake up (myself) before six in the morning.  </a:t>
            </a:r>
            <a:r>
              <a:rPr b="1" lang="es-ES_tradnl" sz="2000" spc="-1" strike="noStrike">
                <a:solidFill>
                  <a:srgbClr val="000000"/>
                </a:solidFill>
                <a:latin typeface="Franklin Gothic Book"/>
              </a:rPr>
              <a:t>(Hint: Use a reflexive verb AND reflexive pronoun)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Yo debo despertarme antes de las seis de la mañana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Franklin Gothic Book"/>
              </a:rPr>
              <a:t>4. You (plural/formal) should leave from the school early today. 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eb641b"/>
                </a:solidFill>
                <a:latin typeface="Franklin Gothic Book"/>
              </a:rPr>
              <a:t>Ustedes deben salir de la escuela temprano hoy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LA PR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ÁCTICA CON LAS PIZARRA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822240" y="83808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da1f28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You should clean your room!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1280" indent="-13896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¡Debes limpiar tu cuarto!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2. We should eat in the kitchen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1280" indent="-13896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Nosotros debemos comer en la cocina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3. They should buy two table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1280" indent="-13896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os deben comprar dos mesa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291600" indent="-29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4. You (formal, singular) should sweep the floor quickly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1280" indent="-13896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Usted debe barrer el suelo rápidament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LA PRÁCTICA CON LAS PIZARRA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80520" y="1100160"/>
            <a:ext cx="84582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2" marL="381600" indent="-15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b641b"/>
                </a:solidFill>
                <a:latin typeface="Franklin Gothic Book"/>
              </a:rPr>
              <a:t>1. He should iron the clothing carefully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Él debe planchar la ropa cuidadosament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b641b"/>
                </a:solidFill>
                <a:latin typeface="Franklin Gothic Book"/>
              </a:rPr>
              <a:t>2. I should arrange the book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Yo debo ordenar los libro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b641b"/>
                </a:solidFill>
                <a:latin typeface="Franklin Gothic Book"/>
              </a:rPr>
              <a:t>3. You all (Spain) should vaccuum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Vosotros debéis pasar la aspiradora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b641b"/>
                </a:solidFill>
                <a:latin typeface="Franklin Gothic Book"/>
              </a:rPr>
              <a:t>4. She should order olives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da1f2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a debe pedir las aceitunas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8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8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3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8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3" dur="500"/>
                                        <p:tgtEl>
                                          <p:spTgt spid="2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8" dur="500"/>
                                        <p:tgtEl>
                                          <p:spTgt spid="2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3" dur="500"/>
                                        <p:tgtEl>
                                          <p:spTgt spid="2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MÁS PRÁCTICA…MÁS DIFÍCIL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838080"/>
            <a:ext cx="78868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Clr>
                <a:srgbClr val="da1f28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You should eat it! (potato omlet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Tú debes comer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 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debes comer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a1f28"/>
                </a:solidFill>
                <a:latin typeface="Franklin Gothic Book"/>
              </a:rPr>
              <a:t>2. </a:t>
            </a: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They should send </a:t>
            </a:r>
            <a:r>
              <a:rPr b="1" i="1" lang="es-ES_tradnl" sz="2800" spc="-1" strike="noStrike">
                <a:solidFill>
                  <a:srgbClr val="2da2bf"/>
                </a:solidFill>
                <a:latin typeface="Franklin Gothic Book"/>
              </a:rPr>
              <a:t>mandar</a:t>
            </a:r>
            <a:r>
              <a:rPr b="1" i="1" lang="es-ES_tradnl" sz="2800" spc="-1" strike="noStrike">
                <a:solidFill>
                  <a:srgbClr val="da1f28"/>
                </a:solidFill>
                <a:latin typeface="Franklin Gothic Book"/>
              </a:rPr>
              <a:t> </a:t>
            </a: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them. (the invitations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os deben mandar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s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. Ellos 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s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 deben mandar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3. I should sweep it! (the floor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Yo debo barrer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o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. Yo 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o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 debo barrer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da1f28"/>
                </a:solidFill>
                <a:latin typeface="Franklin Gothic Book"/>
              </a:rPr>
              <a:t>4. She should take it out. (the trash)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284400" indent="-2844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a deber sacar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. Ella </a:t>
            </a:r>
            <a:r>
              <a:rPr b="0" lang="es-ES_tradnl" sz="2800" spc="-1" strike="noStrike">
                <a:solidFill>
                  <a:srgbClr val="eb641b"/>
                </a:solidFill>
                <a:latin typeface="Franklin Gothic Book"/>
              </a:rPr>
              <a:t>la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 debe sacar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3581280" y="5211720"/>
          <a:ext cx="5334120" cy="1554120"/>
        </p:xfrm>
        <a:graphic>
          <a:graphicData uri="http://schemas.openxmlformats.org/drawingml/2006/table">
            <a:tbl>
              <a:tblPr/>
              <a:tblGrid>
                <a:gridCol w="2667240"/>
                <a:gridCol w="266688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e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- 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s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– 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– you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s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– you 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, La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s, Las </a:t>
                      </a:r>
                      <a:r>
                        <a:rPr b="1" lang="es-ES_tradnl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- 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</a:tbl>
          </a:graphicData>
        </a:graphic>
      </p:graphicFrame>
      <p:pic>
        <p:nvPicPr>
          <p:cNvPr id="234" name="Rectangle 4" descr=""/>
          <p:cNvPicPr/>
          <p:nvPr/>
        </p:nvPicPr>
        <p:blipFill>
          <a:blip r:embed="rId1"/>
          <a:stretch/>
        </p:blipFill>
        <p:spPr>
          <a:xfrm>
            <a:off x="201600" y="5241960"/>
            <a:ext cx="3059280" cy="1403280"/>
          </a:xfrm>
          <a:prstGeom prst="rect">
            <a:avLst/>
          </a:prstGeom>
          <a:ln w="0">
            <a:noFill/>
          </a:ln>
        </p:spPr>
      </p:pic>
      <p:cxnSp>
        <p:nvCxnSpPr>
          <p:cNvPr id="235" name="Straight Arrow Connector 11"/>
          <p:cNvCxnSpPr/>
          <p:nvPr/>
        </p:nvCxnSpPr>
        <p:spPr>
          <a:xfrm flipV="1">
            <a:off x="2819520" y="6247800"/>
            <a:ext cx="915120" cy="153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36" name="Rectangle 15" descr=""/>
          <p:cNvPicPr/>
          <p:nvPr/>
        </p:nvPicPr>
        <p:blipFill>
          <a:blip r:embed="rId2"/>
          <a:stretch/>
        </p:blipFill>
        <p:spPr>
          <a:xfrm>
            <a:off x="6534000" y="249120"/>
            <a:ext cx="238464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7:29:35Z</dcterms:created>
  <dc:creator>Heffernen, Heather</dc:creator>
  <dc:description/>
  <dc:language>en-US</dc:language>
  <cp:lastModifiedBy>Prine, Stephanie</cp:lastModifiedBy>
  <dcterms:modified xsi:type="dcterms:W3CDTF">2013-11-04T17:11:33Z</dcterms:modified>
  <cp:revision>17</cp:revision>
  <dc:subject/>
  <dc:title>Los Apuntes: DEBER</dc:title>
</cp:coreProperties>
</file>